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8A2-B01A-41C6-9B87-DAE70B3F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B36-5F63-4E06-BA66-1320E797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878-F9BA-4035-8317-A0D7126B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9AE-80BA-4E36-95A7-A0E50CB8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4867C-A251-4107-BFED-A0FABE8A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9199E-45A4-4510-8F55-85B4CFB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34044-A972-4336-8298-BAD7829F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EECF2-980C-4A97-9F20-D1AE0222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84DB6-8FEB-4CE9-9108-BF3272B6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942D6-46C8-417E-A830-E2321CA0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FF068-A369-42FF-8B96-0DBC643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883-CF20-42A8-B08D-52CCAC17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5AA1F-5079-474A-9DD6-F07722AA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006E6-E9F9-428C-B4E9-CB7BC067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72D8F-640A-4BC0-A1C0-F8C030E1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0E8C2-C5EE-47DF-8959-CF68755B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ADEA0-0EBA-49A6-8FD1-89B55877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9BB-C4F4-4933-A5F8-E152A665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7BE-3F9D-4E11-9757-9204F200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196-01E3-4592-B8AB-0873E9DD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991-492A-4FC4-B952-4EA24905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769-ADF0-4D72-88B5-D67976AF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81F-F82B-4301-9422-FA35BFAC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F60-D6AF-497B-A612-9401CE0C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E3AF-CA0B-48EF-B4C9-B5BBF064C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8B9B-87BA-41C8-AA39-C76D1A13F0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нградский райо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 10 х. Куликовског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Ленинградский район</a:t>
            </a:r>
            <a:endParaRPr b="0" lang="en-US" sz="1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«Алфави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Гласные  и  согласные звуки» </a:t>
            </a:r>
            <a:br>
              <a:rPr sz="3200"/>
            </a:b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 5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исимова Т.А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ahoma"/>
              </a:rPr>
              <a:t>    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писать творческую работу – сочинение-миниатюру о любых буквах алфави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4000" spc="-1" strike="noStrike">
                <a:solidFill>
                  <a:srgbClr val="c00000"/>
                </a:solidFill>
                <a:latin typeface="Tahoma"/>
              </a:rPr>
              <a:t>Спасибо  за  работу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Источники</a:t>
            </a:r>
            <a:br>
              <a:rPr sz="4000"/>
            </a:br>
            <a:r>
              <a:rPr b="1" lang="ru-RU" sz="4000" spc="-1" strike="noStrike">
                <a:solidFill>
                  <a:srgbClr val="ffde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Русский язык учебник в 3-х частях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ласс/ Львова С.И., Львов В.В. –  Москва.-  Мнемозина.-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znanija.com/task/10261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7760" y="15192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Беседа</a:t>
            </a:r>
            <a:endParaRPr b="0" lang="en-US" sz="6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лфавит – альфа+ вита (греч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збука – аз+ бу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91960"/>
            <a:ext cx="69343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e7ed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Работа над темой урока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годня  мы  продолжим  наш      разговор  о  звуках 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 какие  две  группы  делятся  звуки  ре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Звуки 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гласные                          соглас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4952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Гласные звуки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864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ложном мире звуков речи гласным «живется» легче, так как, образуясь, они на своем пути не встречают никаких преград – воздух свободно идет через р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сных звуков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а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о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э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и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ы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у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Задание.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оизнесите  каждый  гласный звук  в  отдельности. Проверьте правильность высказывания С.Марша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«дыхание  свободно  в  каждой  гласно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de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гласные  звуки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личие  от  гласных, при  образовании на    своем пути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встречают препятстви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: губы, зубы, язы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ри  произношении согласного  нужно  хоть  чуть-чуть приоткрыть  рот, из-за  чего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получается шум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Задание.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лесу, если вы заблудились, кричите «Ау».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пробуйте прокричать, используя только согласные звук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чему не получилос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кричать, нужен голос, а у согласных его почти нет, один шум име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Отгадай мультфильмы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Р - с - л - чк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р - с - в - ц - - ч - д - в - щ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 - п - Д - йл сп - ш - т н - п - м - щ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 - н - к - л - в Пр - ст - кв - ш - н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 -, п - г - д -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ыполнение тест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 каком ряду фамилии расположены строго в алфавитном порядке? </a:t>
            </a:r>
            <a:endParaRPr b="0" lang="en-US" sz="36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I вариан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Соколова, Степанов, Федотов, Цыган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околова, Степанов, Цыганков, Федот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Степанов, Соколова, Федотов, Цыган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Соколова, Федотов, Цыганков, Степ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II вариант: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Михалков, Миронов, ЛиньковЛанов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Линьков, Лановой, Михалков, Мир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Лановой, Линьков, миронов, Михал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Лановой, Миронов, Линьков, Михал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e7ed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одведение итогов.</a:t>
            </a:r>
            <a:br>
              <a:rPr sz="4000"/>
            </a:br>
            <a:r>
              <a:rPr b="1" lang="ru-RU" sz="4000" spc="-1" strike="noStrike">
                <a:solidFill>
                  <a:srgbClr val="ffde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Итак, что такое алфав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Для чего мы должны его хорошо знат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нам пригодятся наши зна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20T00:43:2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